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720-76B2-469E-B422-E6A88F74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C72-7B22-4A83-860A-A3340AD6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3D1-952E-4442-A5F6-54E166FB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36D-1404-4CD0-84AC-410F41AC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3E0-9A5D-4563-8D2B-597AEAA7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D6E-EE37-4245-9595-A004C978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FA2-7EFC-4482-ADB7-B92E0824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A5E-891A-4489-B8E1-19714377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1CD-6F51-45DE-97D6-8B274B40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495-1179-490D-8A4D-C2FF435F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01C-DFBA-4EC1-9DAF-50B51326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0BA-D350-4FFE-8D02-5876BD41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73C9-9CF2-43FB-A27D-33C25FB9C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2828880" cy="3381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380880"/>
            <a:ext cx="6477120" cy="8534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8902800"/>
            <a:ext cx="6632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S 1415 AK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SEP 04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3080" y="921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0040" y="531720"/>
            <a:ext cx="362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2720" y="5456160"/>
            <a:ext cx="52250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ARMY SOLDIER SUPPORT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ACTICE SET # 14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640" y="7695000"/>
            <a:ext cx="59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Commitment and Obligation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4400" y="656604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2560" y="6519960"/>
            <a:ext cx="1195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93480" y="6519960"/>
            <a:ext cx="8370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2560" y="6519960"/>
            <a:ext cx="1195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93480" y="6519960"/>
            <a:ext cx="8370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83200" y="7891560"/>
            <a:ext cx="1019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rthur B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13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2560" y="6519960"/>
            <a:ext cx="1195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93480" y="6519960"/>
            <a:ext cx="8370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14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2560" y="6519960"/>
            <a:ext cx="1195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93480" y="6519960"/>
            <a:ext cx="8370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97440" y="7891560"/>
            <a:ext cx="1019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rthur B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20520" y="705312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1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27280" y="8348760"/>
            <a:ext cx="13827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olden Dia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6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4160" y="655308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48520" y="655308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20520" y="712944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17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4160" y="655308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48520" y="655308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97440" y="7891560"/>
            <a:ext cx="1019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rthur B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20520" y="712944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50920" y="396720"/>
            <a:ext cx="455616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TAIN COMMITMENT AND OBLIGATION RECOR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SET NUMBER 14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5360" y="1552680"/>
            <a:ext cx="6408720" cy="54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DITION:  Given a requirement to maintain Internal Commitment and Obligation Records and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cess to blank Commitment and Obligation Documents and standard office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pplies and equip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ON:        The student will maintain Internal Commitment and Obligation  (Fund Control)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NDARD:   In accordance with previous instructions, the STANFINS User’s Manual, DFAS-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IN Regulation 37-1, and DoDFMR Volume 1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TUATION: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 You are assigned to the 54th Mechanized Infantry Division at the Division Resour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agement Office. Because of unusually high tensions between European All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 Soviet Block countries, the 54th Mech Infantry Division has been moved to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uropean Thea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 LTC Aaron Wilson is the Fund Certifying Officer for the 54th Mechanized Infantry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AMSCO 202011.00, APC A111) and K. Newsom, DAC, is the Fund Certifying Officer for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4th Medical Battalion (AMSCO 202014.00, APC A321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QUIREMENT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 Post all financial information to the appropriate commitment and obligation  (fund control)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 Maintain the Uncommited Balance of Funds Availa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 Today’s date is 5 October **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8080" y="1066680"/>
            <a:ext cx="644652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JKG-B                                                                                                                       1 October **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MORANDUM FOR:   Commander, 54th Mechanized Infantry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Resource Management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BJECT:   First Quarter  (FY**)  Funding Targ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 AMSCO  202011.00,  202014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C A111,  A3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ODAAC  ZAAHA,  Z16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 Direct obligation  (Initial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.   Quarter     $590,000.00,     26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.   Annual   $2,400,000.00      985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 Not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.   Funded Reimbursement Authority (FRA) - Not 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.   Automatic Reimbusrement Authority (ARA) - Authorized based on receipt of ord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.   POL not included at company level, charged to HHC (W53BNH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 a.   202011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T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NN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1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5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1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3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0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,0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65,000.00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 3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59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$2,4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.   202014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3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0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75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5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2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35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6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985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840" y="0"/>
          <a:ext cx="6827760" cy="9144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0"/>
                    <a:ext cx="682776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23920" y="885204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3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-104760" y="0"/>
          <a:ext cx="70596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0"/>
                    <a:ext cx="70596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4757040" y="5114880"/>
            <a:ext cx="392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03000" y="6469200"/>
            <a:ext cx="937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MARY SCHUT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78480" y="8167680"/>
            <a:ext cx="923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2240" y="8924760"/>
            <a:ext cx="227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6800" y="8928000"/>
            <a:ext cx="6273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AK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6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44400" y="659592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1068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7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4400" y="659592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87000" y="712944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8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44400" y="659592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20520" y="712944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AK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9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44400" y="656604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58000" y="789156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37:12Z</dcterms:created>
  <dc:creator>Joseph Pecorella</dc:creator>
  <dc:description/>
  <dc:language>en-US</dc:language>
  <cp:lastModifiedBy>Administrator</cp:lastModifiedBy>
  <cp:lastPrinted>2000-01-24T16:57:23Z</cp:lastPrinted>
  <dcterms:modified xsi:type="dcterms:W3CDTF">2004-09-16T14:33:09Z</dcterms:modified>
  <cp:revision>17</cp:revision>
  <dc:subject/>
  <dc:title>No Slide Title</dc:title>
</cp:coreProperties>
</file>